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035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069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4"/>
          </p:nvPr>
        </p:nvSpPr>
        <p:spPr>
          <a:xfrm>
            <a:off x="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4880"/>
            <a:ext cx="32400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95C19-5039-45C6-9F37-08C20F8E7FA0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36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3240" cy="397656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166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11800" cy="397512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148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1C1B-A1E1-4153-B1C5-C62919BA4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0373-574F-450A-95B7-1D95C38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E724-F071-4584-9226-C23B684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644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9600" y="176796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644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9600" y="4036680"/>
            <a:ext cx="2907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1CEB-2DAB-4B7B-B45C-E4BE6EC60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55A9-0CF7-4225-A0BC-0232C30F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656F-33B9-4367-88FC-6F9725E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6D2E-ADCF-44A8-84B2-FC149D5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9B88-6C46-4CCE-9581-439F4894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5200"/>
            <a:ext cx="90295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3FAC-FB6E-4A8F-850B-120AB596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C7B2-D19A-48C3-808A-4E96752E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360" y="403668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8784-0813-4149-821A-510F7A7A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360" y="1767960"/>
            <a:ext cx="4406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36680"/>
            <a:ext cx="9029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AC43-83B7-4CC3-A50A-13C7713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5200"/>
            <a:ext cx="90295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9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 septembr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91280" y="7046640"/>
            <a:ext cx="230652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C8FB7-4CEA-4C29-A4DA-61D71A9616A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1280" y="0"/>
            <a:ext cx="1800" cy="7559640"/>
          </a:xfrm>
          <a:prstGeom prst="line">
            <a:avLst/>
          </a:prstGeom>
          <a:ln cap="sq" w="72000">
            <a:solidFill>
              <a:srgbClr val="ff95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7280" y="3384720"/>
            <a:ext cx="90709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nneaux d’affichage dynamique et To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46800" y="144360"/>
            <a:ext cx="2689200" cy="107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20720" y="4680000"/>
            <a:ext cx="878364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2952720"/>
            <a:ext cx="8640720" cy="1440"/>
          </a:xfrm>
          <a:prstGeom prst="line">
            <a:avLst/>
          </a:prstGeom>
          <a:ln cap="sq"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381636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720" y="1008000"/>
            <a:ext cx="8724960" cy="49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54A0-8AEE-4ED0-8C7D-EC31A6BE50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944640"/>
            <a:ext cx="7561080" cy="56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511B-5BFD-482D-85F9-325727C2F48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2680" y="760320"/>
            <a:ext cx="805356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0737-CFC3-4574-8CB1-D2CEA3AFC8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5600" y="866880"/>
            <a:ext cx="776772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450D-8155-410E-B377-649F3077B4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2600" y="1609560"/>
            <a:ext cx="7715160" cy="434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7F15-08AD-43CC-8CC5-4BEC9B585A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30280" y="1749600"/>
            <a:ext cx="72183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C48F-14D2-4851-B260-ABC8AA5DD5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152360"/>
            <a:ext cx="2772000" cy="492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0800000">
            <a:off x="5688000" y="2139120"/>
            <a:ext cx="3240000" cy="18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DBFC-FE21-4C1F-BAF0-AC2CF5CE6F9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5040360" cy="106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64360" y="647640"/>
            <a:ext cx="3024000" cy="3597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7080" y="2038320"/>
            <a:ext cx="3635640" cy="242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264360" y="4464000"/>
            <a:ext cx="30798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38360" y="5002200"/>
            <a:ext cx="3509640" cy="14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931F-804A-437F-BFAC-D9B0B46D7D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515880"/>
            <a:ext cx="233208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3960" y="2824200"/>
            <a:ext cx="3238560" cy="372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19680" y="360360"/>
            <a:ext cx="38401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76720" y="2917800"/>
            <a:ext cx="5143320" cy="7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896000" y="4005360"/>
            <a:ext cx="40766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967280" y="6416640"/>
            <a:ext cx="3932280" cy="63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0841-1FA8-4B47-B44C-9110D8A831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5400000">
            <a:off x="-333720" y="1775880"/>
            <a:ext cx="614844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4130280" y="18237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E89D-B0B8-4AF9-8D0E-8FE6BAFD72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144360"/>
            <a:ext cx="9066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194472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50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71640" y="755640"/>
            <a:ext cx="45356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5DBC-7A5E-489D-9527-1B8F604D51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720" y="792000"/>
            <a:ext cx="5291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5168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1133-A91C-4A93-8472-5B5CA5F8C9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9160" y="765000"/>
            <a:ext cx="804240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88A1-6EF7-4885-82DE-AD7E8B1B0C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0880" y="431640"/>
            <a:ext cx="46054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43640" y="431640"/>
            <a:ext cx="3655800" cy="650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640" y="3270240"/>
            <a:ext cx="455292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E692-1A40-476A-8BD2-F0037F01CB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8200" y="1400040"/>
            <a:ext cx="8462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BEEF-08EC-4BEE-B721-8B5859B6F6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152360"/>
            <a:ext cx="2597040" cy="461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75280" y="1152360"/>
            <a:ext cx="25704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2776-41AD-49FD-89FC-3987AA9197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1405080"/>
            <a:ext cx="844848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54F8-CB10-4B8F-8426-88C47A9E92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452600"/>
            <a:ext cx="8278920" cy="46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12CB-EA6F-4FBF-BA46-8FE1C9A0DD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09:22:00Z</dcterms:created>
  <dc:creator/>
  <dc:description/>
  <dc:language>en-US</dc:language>
  <cp:lastModifiedBy/>
  <dcterms:modified xsi:type="dcterms:W3CDTF">2016-09-23T10:13:47Z</dcterms:modified>
  <cp:revision>22</cp:revision>
  <dc:subject/>
  <dc:title/>
</cp:coreProperties>
</file>