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035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069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4"/>
          </p:nvPr>
        </p:nvSpPr>
        <p:spPr>
          <a:xfrm>
            <a:off x="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EA9C-B443-4142-ADE4-D32D834B5EE3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7F9F-5233-4FAD-B578-0403DAA54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9923-6101-40E5-BD66-A1996E9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D8C4-2CF0-4D23-8F12-B187BDC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44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960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44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960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A322-BD73-4E58-B850-BCD3C6E22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AFBD-FD7C-443C-A7DB-867F82F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4D83-CEFA-40A7-ABD5-369BA79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003D-BF48-4FC4-9550-C492F1E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38F0-C407-4A65-BD0C-DD13B62F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295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71E7-EA83-4B59-9124-4C92DB06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7A93-3D05-4519-898F-955DE83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5369-0BAC-46AB-A706-313A2CA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9F8A-D8D4-4A1F-996B-8FB94C40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 septembr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9128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E6A9F-93A5-48BD-AA1B-C9321F1B355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1280" y="0"/>
            <a:ext cx="1800" cy="7559640"/>
          </a:xfrm>
          <a:prstGeom prst="line">
            <a:avLst/>
          </a:prstGeom>
          <a:ln cap="sq" w="72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7280" y="3384720"/>
            <a:ext cx="90709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nneaux d’affichage dynamique et To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46800" y="144360"/>
            <a:ext cx="2689200" cy="107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20720" y="4680000"/>
            <a:ext cx="878364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2952720"/>
            <a:ext cx="864072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381636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720" y="1008000"/>
            <a:ext cx="8724960" cy="49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EB7F-5726-4AA8-A233-60559FF473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944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3FF4-B469-425C-92B3-2426611139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2680" y="760320"/>
            <a:ext cx="805356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0EE9-B64C-44EF-A5B3-44A7DD3690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5600" y="866880"/>
            <a:ext cx="776772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164D-E87C-4FBA-986F-6F38C41616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2600" y="1609560"/>
            <a:ext cx="7715160" cy="434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7B0A-5117-4E39-8618-C3B89A8EF4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1749600"/>
            <a:ext cx="72183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3A2A-30B4-4688-92E2-F9ABE8504D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152360"/>
            <a:ext cx="2772000" cy="492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0800000">
            <a:off x="5688000" y="2139120"/>
            <a:ext cx="3240000" cy="18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7133-1CD0-4109-A42D-1C0965D3CF2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5040360" cy="106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64360" y="647640"/>
            <a:ext cx="3024000" cy="359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7080" y="2038320"/>
            <a:ext cx="3635640" cy="24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264360" y="4464000"/>
            <a:ext cx="30798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38360" y="5002200"/>
            <a:ext cx="3509640" cy="14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C16E-0C52-4159-87A7-B16165E138B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515880"/>
            <a:ext cx="233208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3960" y="2824200"/>
            <a:ext cx="323856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19680" y="360360"/>
            <a:ext cx="38401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76720" y="2917800"/>
            <a:ext cx="5143320" cy="7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896000" y="4005360"/>
            <a:ext cx="407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967280" y="6416640"/>
            <a:ext cx="3932280" cy="63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ECEF-C247-4E6C-B7F8-4511824BC3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5400000">
            <a:off x="-333720" y="1775880"/>
            <a:ext cx="614844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4130280" y="18237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2850-D58E-43AC-B6CB-A2105C523E0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144360"/>
            <a:ext cx="9066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194472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50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71640" y="755640"/>
            <a:ext cx="45356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D6C2-8743-498B-BC27-0268165FF8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720" y="792000"/>
            <a:ext cx="52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516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6241-F4AC-458D-B48C-FF2BF48A0B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9160" y="765000"/>
            <a:ext cx="804240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6E33-DA9D-494F-AC31-8667E1E256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0880" y="431640"/>
            <a:ext cx="46054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43640" y="431640"/>
            <a:ext cx="3655800" cy="650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640" y="3270240"/>
            <a:ext cx="45529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0504-6B2D-49DC-A2AE-F02074729C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8200" y="1400040"/>
            <a:ext cx="8462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BB36-5BC8-4466-9494-B187223DED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152360"/>
            <a:ext cx="2597040" cy="461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75280" y="1152360"/>
            <a:ext cx="25704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BB26-026D-4729-B727-3A11AC1B4F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1405080"/>
            <a:ext cx="844848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B0D4-A6C1-46C4-96C9-E553AEA134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52600"/>
            <a:ext cx="827892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BFBC-2366-4EAC-92EF-2579B3E111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9:22:00Z</dcterms:created>
  <dc:creator/>
  <dc:description/>
  <dc:language>en-US</dc:language>
  <cp:lastModifiedBy/>
  <dcterms:modified xsi:type="dcterms:W3CDTF">2016-09-23T10:13:47Z</dcterms:modified>
  <cp:revision>22</cp:revision>
  <dc:subject/>
  <dc:title/>
</cp:coreProperties>
</file>